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33156"/>
        <c:axId val="45149586"/>
      </c:barChart>
      <c:catAx>
        <c:axId val="43733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49586"/>
        <c:crosses val="autoZero"/>
        <c:auto val="1"/>
        <c:lblAlgn val="ctr"/>
        <c:lblOffset val="100"/>
        <c:noMultiLvlLbl val="0"/>
      </c:catAx>
      <c:valAx>
        <c:axId val="45149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33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8A4-F50C-48BD-8159-8C24AB28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564-7212-496A-B663-B5B035DF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ADD-F506-49DC-989C-3B3EF42B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6FD-06EF-4D16-9CDA-1C9CB928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5FE-D410-4BE2-87A8-B018CB0C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38B-8E51-417A-BA0C-1450DEC4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D7B-B307-4A94-989E-19A061B4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6AF-031D-4A5D-930C-8C1D0140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D7D-56C6-44FB-8EA3-A1F52EC7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14E-E5EF-400C-BE53-6FD0E0B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238-5BC5-4297-B27F-B7DD9422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C82-A224-4DFC-A4A9-A969366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1B0B9-B151-49C7-A97D-5D33CA27D7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