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94595"/>
        <c:axId val="48287402"/>
      </c:barChart>
      <c:catAx>
        <c:axId val="19694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87402"/>
        <c:crosses val="autoZero"/>
        <c:auto val="1"/>
        <c:lblAlgn val="ctr"/>
        <c:lblOffset val="100"/>
        <c:noMultiLvlLbl val="0"/>
      </c:catAx>
      <c:valAx>
        <c:axId val="48287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4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A45-E9AD-4847-AF52-5F8DA3B9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4C7-E118-489C-8F93-FF89345C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218-C3B4-430A-B1FD-E5B0BEFE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F0E-0EB6-4A98-9F73-F0C54528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5DF-4F7D-41B4-B291-562D974D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B3D-AFFC-4BB6-B21E-84E25CA4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254-4698-4F0F-97E4-2806ABA3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3FF-EC7C-4FFF-ADB0-6F9BA7E8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A04-EE46-48B6-BB24-814A509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D50-198C-4747-8843-0AE2D378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8B2-07DF-4BAF-BCA5-1F857EB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694-C88F-4901-AB26-DF06B4EA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10561-6F61-46EA-AD68-3BE39F825B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