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68467"/>
        <c:axId val="38719605"/>
      </c:barChart>
      <c:catAx>
        <c:axId val="62468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19605"/>
        <c:crosses val="autoZero"/>
        <c:auto val="1"/>
        <c:lblAlgn val="ctr"/>
        <c:lblOffset val="100"/>
        <c:noMultiLvlLbl val="0"/>
      </c:catAx>
      <c:valAx>
        <c:axId val="38719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68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4D5-506E-4D05-9A9C-573916D1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261-DF2D-42FF-89E6-DA7F3FC1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414-390D-49F7-A4BE-DC954395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C28-BB2F-45D2-9794-AE16239A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51E-53A8-4389-8EB6-BFAF56A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26D-D5D3-49E9-8120-00581B8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715-0998-4E63-949D-44CCDFF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169-2D83-4984-AF38-CC89CB4C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031-694A-4D3F-A9B5-6EFA5FFE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B5A-FB72-4197-9697-655395EA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D58-235B-4568-B796-DD6064D0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EB0-75DA-4835-8028-E5109AE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AD5A-C425-4E93-B46B-0F6195A6D3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