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08266"/>
        <c:axId val="31682645"/>
      </c:barChart>
      <c:catAx>
        <c:axId val="10308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82645"/>
        <c:crosses val="autoZero"/>
        <c:auto val="1"/>
        <c:lblAlgn val="ctr"/>
        <c:lblOffset val="100"/>
        <c:noMultiLvlLbl val="0"/>
      </c:catAx>
      <c:valAx>
        <c:axId val="316826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08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77D-4855-46B8-8561-F75A014A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736-C7DF-42DA-A3B0-C81C50DD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E868-139F-4370-8A8B-B58304DB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206-8CA0-4FB5-81B5-DD564F9A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45C-CEB3-476B-84F7-15E1C44D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4EE-7722-40EA-BFC7-1796ED1C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C51-0800-452E-B10C-AE0F6DBB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83E-792E-439C-83AF-AC3F8678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4A3-F9CF-4FE1-BA82-C246B104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4438-DE43-4CD1-BA38-11AD4EB9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940B-A295-4C2B-9473-BD564DF6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E44-3FB2-4DA5-BC3E-103A55DE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9C3EA-F113-4040-9DAC-E5BD3D7FFE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