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84982"/>
        <c:axId val="64595630"/>
      </c:barChart>
      <c:catAx>
        <c:axId val="82284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95630"/>
        <c:crosses val="autoZero"/>
        <c:auto val="1"/>
        <c:lblAlgn val="ctr"/>
        <c:lblOffset val="100"/>
        <c:noMultiLvlLbl val="0"/>
      </c:catAx>
      <c:valAx>
        <c:axId val="64595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4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C49-A261-4637-B776-B562F257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869B-853E-4A87-AA4A-4E615E20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7646-A3E9-4CAD-A945-A28976E3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6D6-461E-447A-9851-ABB84DDC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A59-99E8-4D7A-AFB5-A733FA33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B117-F1A8-402F-AAA8-68D932B8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31D-A46C-4740-8906-85EEF2BD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7FF9-512D-4B84-BD10-422A98E4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312-E2F6-4BA8-88EC-BBBF25D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A15-5F90-4FA2-AE24-12DE3E0A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341-D493-4330-978B-E5FCAE5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7BE-75C4-4F82-B7AB-461FA93C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1AEB7-ED22-4B33-BDE7-BC17BF2F58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