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026349"/>
        <c:axId val="75347970"/>
      </c:barChart>
      <c:catAx>
        <c:axId val="53026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47970"/>
        <c:crosses val="autoZero"/>
        <c:auto val="1"/>
        <c:lblAlgn val="ctr"/>
        <c:lblOffset val="100"/>
        <c:noMultiLvlLbl val="0"/>
      </c:catAx>
      <c:valAx>
        <c:axId val="753479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26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9B2-44C5-4264-9CB3-BAEE928B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0F6-BE20-462A-B627-41827F42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846-5F86-42CD-A813-EA35BA30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F14-81C2-453E-A031-5BB22D3E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6EF-02E4-49F9-BCC0-1E4A380D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A754-DFEA-4BBD-A379-AA0E737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573-544C-44D3-A9C8-4A1EECB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E65-EEAE-4963-A8CB-CD3D3B44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61C-16BF-4E9E-9987-433ED58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20B-535E-4624-9458-58554847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177-2044-4A14-92B3-8BF07680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EA2-9FD3-41BC-A41C-1655D000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99690-406D-4C82-98F7-1729A8059C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